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B71-FA76-4304-80D5-FC79EFDE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EF3-2EBD-42D3-BBD1-52CE321F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8A0-9A2E-489E-88BF-89FAB634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F74-35C7-49E2-84D8-7F8237E4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3403-3078-47AC-AEE6-872C667F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7F78-2515-450F-A23E-395F686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F3D2-C0DC-422C-87A6-46875E0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92B-546C-4D07-9265-CE8219C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C99-7381-465C-8B80-15873FD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CB68-E037-4BC3-8157-EAC17250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5054-DDCA-4155-B640-7BB40F1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CD5-1031-4E1D-B49B-32B7E2F4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7955-8D92-49E0-B0B1-E920B4E2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B9E5-B7E1-44F6-BA74-A7E0A64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26E-51CF-4C36-B069-E515A57A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D6C3-B465-40D9-BE0A-BD748B07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EF23-D5A0-4BE9-8A9E-B4A2BA9C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7D0-3F87-433E-90E0-57B83D5D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FC5-56FE-42F6-BA33-6C7D8F4C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54F-6B01-47E4-9863-F6CC0A82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060-D28E-4C3D-BF35-6CD053A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6FB-FAAB-4BF6-B3A6-D4128D9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592-BA0F-4348-A83E-B8B70EDC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CB2-52E1-4236-B59A-ACED5FA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6AEC-9909-4DEE-BA4D-988C73AFE6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2A59-7068-451E-BC7A-2843F1D450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РВИ и грипп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841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88620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770280"/>
            <a:ext cx="3733920" cy="308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Бронхит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ажение бронхов различного диаме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шель (вначале сухой, через несколько дней – влажный, мокрота чаще слизистая, со 2-ой недели – с примесью зелен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ускультативно – рассеянные сухие и влажные хрипы в легк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тиология ОРВ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атогенетические механизмы ОРВ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дрение возбудителя в клетки эпителия дыхательных путей и его репроду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русемия с развитием токсикоза и токсико-аллергических реа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воспалительного процесса в дыхательной сис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тное развитие инфекционного процесса, формирование иммун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еимущественное поражение различных отделов дыхательного тракта при разных ОРВ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600200"/>
          <a:ext cx="8763120" cy="5378400"/>
        </p:xfrm>
        <a:graphic>
          <a:graphicData uri="http://schemas.openxmlformats.org/drawingml/2006/table">
            <a:tbl>
              <a:tblPr/>
              <a:tblGrid>
                <a:gridCol w="42674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зологическая ф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ой синдр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ип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ахе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агрип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ринг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новирусная инфек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нзиллофарингит, конъюнктивит, аденовирусная пневмо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новирусная инфек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н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о-синтициальный виру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нхит, бронхиол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онавиру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нофарингит, бронх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онавирус ТОР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нхит, бронхиолит, РДС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обенности клинической картины грипп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кубационный период от 12 до 48 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ое начало с озноба, лихорадки до 39-40°С уже в первые сутки заболевания и общих явлений интокс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оксикационный синдром максимально выражен на 2-3-й день, характер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раженная общая слабость, чувство разбит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овная боль в лобных или лобно-височных област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мота в мышцах, костях, сустав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тобоязнь, слезотечение, боль в глазных яблок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огда боли в животе, кратковременная рвота и диарея, преходящие явления менинг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обенности клинической картины грипп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наки поражения респираторного тракта присоединяются позже (через несколько часов от появления симптомов интоксикац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ные проявления респираторного синдрома при грипп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ложенность носа или слабо выраженная риноре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шение в горле, мучительный сухой кашель, саднящие боли за грудиной и по ходу трахеи, осиплый гол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ез несколько дней кашель становится продуктивным, с выделением слизистой или слизисто-гнойной мокр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аральные симптомы сохраняются до 5-7 дней от начала забол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обенности клинической картины грипп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ив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перемия лица и ше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ъекция сосудов склер, влажный блеск гл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ое потоотде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огда - герпетическая сыпь на губах и около но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ркая разлитая гиперемия и зернистость слизистых ротогло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большинства больных полное выздоровление наступает через 7-10 дней, дольше всего сохраняются общая слабость и каш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ряда больных происходит обострение сопутствующей соматической патологии (особенно сердечно-легочной) или развиваются ослож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ьшая летальность характерна для лиц старше 65 лет  и пациентов любого возраста из группы риск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213520" cy="6172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3504960" cy="2440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358128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линические особенности пандемического гриппа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1N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явление болей при глотании, наличие диспептического синдрома у 10-12% пацие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частое развитие вирусной пневмонии с появлением дыхательной недостаточности в среднем на 5-6 день и ранее от момента возникновения первых клинических симптомов заболе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тие вирусной пневмонии  у пациентов с избыточной массой тела (индекс массы тела 30 и боле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ое развитие респираторного дистресс-синдрома, которому предшествует выраженная одышка и упорный, плохо поддающийся лечению кашель, а также кровохаркан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которых случаях развитие полиорганной недостаточ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лабораторном исследовании в общем анализе крови чаще преобладает лейкопения, реже встречается лейкоцитоз и нейтрофиле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енения при рентгенографическом исследовании легких появляются  позже развития клинических признаков дыхательной недостаточности и зачастую интерпретируются как «застой в малом круге», «усиление сосудистого рисунка», «пневмосклероз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тие тяжелых форм заболевания у пациентов молодого и среднего возра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вируса гриппа ОРВИ вызывают также вирусы парагриппа, РС вирус, аденовирусы, коронавирусы, риновирусы, метапневмовирусы, реовирусы, энтеровиру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вязи со схожестью клинической картины дифференциальный диагноз между данными нозологиями клинически затрудн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а цель – клинически дифференцировать ОРВИ и грип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РВИ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уппа заболеван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дающихся воздушно-капельным пут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арактеризующихся  острым поражением различных отделов респираторного тра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обязательным наличием ряда респираторных (катаральных) симптом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обязательным повышением температур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разной степени выраженности (чаще субфебрильно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ифференциальный диагноз ОРВИ, сезонного гриппа и пандемического грипп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1N1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197000"/>
            <a:ext cx="66294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Группы риска по тяжелому течению грипп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лица старше 65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циенты с имммунодефицитными состояниями (врожденные ИДС, ВИЧ-инфекция, получающие цитостатики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циенты с хронической бронхолегочной патологией (муковисцидоз, ХОБЛ, хронический бронхит, бронхиальная астма) и хронической сердечно-сосудистой патолог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циенты с кахексией любого ген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циенты с субкомпенсированным и декомпенсированным сахарным диабе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в возрасте до 1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циенты с гемоглобинопати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77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сложнения грипп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сложнения грипп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 стороны органов дых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ый бронх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невмония (первичная - вирусная и вторичная - бактериаль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бсцесс легкого, эмпиема плевры, пневмоторак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стрение хронического бронхита / ХОБЛ, БА, муковисцид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жный круп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ый средний от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ый бактериальный риносинуси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респираторные ослож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оз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дром Рэ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окардит, перикард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ая токсическая энцефалопа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451"/>
              </a:spcBef>
              <a:buClr>
                <a:srgbClr val="ffcc66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стрение или декомпенсация любых предшествующих хронических заболев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ервичная гриппозная пневмония </a:t>
            </a:r>
            <a:br>
              <a:rPr sz="32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острый геморрагический токсический отек легких)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з 2-3 дня после типичного начала гриппа усиливается кашель, появляются боли в грудной клетке и оды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епенно тахипноэ нарастает, появляются цианоз, кровохарканье, в тяжелых случаях развивается острый респираторный дистресс-синдром взросл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ускультативно сухие и влажные хрипы без физикальных признаков уплотнения легочной тк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тгенологически процесс чаще интерстициальный двусторон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исследовании газового состава крови характерна тяжелая гипок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торичная бактериальная пневмо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возбудители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ptococcus pneumonia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phylococcus aureu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philus influenz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о на фоне улучшения общего самочувствия через 4-5 дней от начала болезни (иногда на 2-3-й неделе) возвращение респираторной симптоматики, появление продуктивного кашля с гнойной мокротой, усиление одышки, вторая волна лихорад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зикально признаки уплотнения легочной ткани (притупление легочного звука, фокус влажных хрипов или инспираторной крепитац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тгенологически - пневмоническая инфильтрация в пределах нескольких сегментов или д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наличии признаков деструкции легочной ткани прежде всего следует предполагать стафилококковую этиологию пневмо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рый ларинготрахеит со стенозом гортани (ложный крупп)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стро возникшее затруднение дыхания, связанное с сужением просвета дыхательных путей вследствие отека подсвязочного пространства горта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ада симптомов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изменение тембра голо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грубый лающий каш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стенотическое дыхание (звучный затрудненный вдо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ндром Рэ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ая энцефалопатия с отеком мозга и жировой инфильтрацией внутренних органов (чаще печени), возникающая на фоне лихорадки вирусного происхождения и приема салицилатов у детей 2-18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- генерализованное повреждение митохондрий из-за ингибирования окислительного фосфорилирования и нарушения β-окисления жирных кисл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ически неукротимая рвота и  острое нарушение сознания на 5-6 день болезни вплоть до ко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АК: гипераммониемия, повышение уровня АСТ, АЛТ более 3-х норм при нормальном уровне билируб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тальность – до 8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ндром Гийена-Барре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ая воспалительная полирадикулоневропа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457880" cy="3105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48320" y="1905120"/>
            <a:ext cx="4495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езапное развитие слабости мышц нижних конечностей с восходящим вовлечением мышц других (по типу вялых паралич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ульбарные расстройства – двусторонний парез мышц лица и ротогло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алич дыхательных мышц (5-10% случае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еря чувствительности по типу носков и перча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ижение, а затем утрата глубоких сухожильных рефлек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гетативные расстройства (аритмии, колебания АД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Лечение ОРВИ и грипп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булаторно помощь оказывается пациентам, но относящимся к группе риска, с легким и среднетяжелым, неосложненным течением грип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казание для госпитализации взрослых пациент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яжелое течение грипп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зкая слабость, заторможенность, нарушение сознания, судоро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хипное более 20 в мин для лиц старше 13 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гидратация, невозможность перорального потребления жидкости (из-за повторной рвоты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хорадка выше 38,5 *С, не купирующаяся адекватными дозами антипиретиков более 1 су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невмо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адлежность к группе р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рипп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трое респираторная инфек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зываемая вирусом грипп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изующаяся высокой лихорадкой (выше 38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), выраженной общей интоксикацией и поражением респираторного тракта чаще в форме трахеи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27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Лечение ОРВИ и грипп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постельный режим, обильное пит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цетамол и другие жаропонижающие в стандартных дозировках (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роме аспирина детям до 18 л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нципы использования жаропонижающи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ее здоровым детям – при температуре 39 *С и выше и/или мышечной ломоте и/или головной бо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ям с сопутствующими тяжелыми заболеваниями сердца – при температуре выше 38,5 *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ям первых месяцев жизни, детям с фебрильными судорогами в анамнезе – при температуре выше 38,0 *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рослым – при температуре выше 38,5 *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м больным при злокачественной гипертермии с нарушением микроциркуля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наличии плохой переносимости явлений, связанных с лихорадкой (головные и мышечные бо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ям парацетамол назначается в суточной дозе 60 мг/кг в 4-6 приемов, взрослым максимально по 0,5 г 4 раза в день, эффективно также сочетание его с ибупрофе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мптоматическая терапия ринита, фарингита, трахеита (деконгестанты, противкашлевые средства и муколити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Лечение ОРВИ и грипп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4582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тиотропная терапия грипп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гибиторы нейраминидазы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единственн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ные препараты для лечения и профилактики пандемического гриппа А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зельтамавир (Тамифлю): для профилактики 75 мг 1 раз в сутки 5 дней, для лечения 75 мг 2 раза в сутки 5 дн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амивир (Реленза) в блистере для ингаляций: для профилактики 10 мг 1 раз в сутки, для лечения  10 мг 2 раза в сутки 5 д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ингибиторами нейраминидазы должно начинаться в первые 36 ч от начала заболевания для максимальной эффективности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мантадин не эффективен против высокопатогенного гриппа, но сохраняет свое значение для профилактики и лечения сезонного грипп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мантадин: для профилактики по 100 мг 2 раза в день не менее 2 недель, для  лечения по 100 мг 2 раза в день 5 д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ремантадином следует начать в первые 48 ч от начала заболе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00040" y="228600"/>
            <a:ext cx="5715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комендации о профилактике передачи инфекции родным и близким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ксимальная изоляция заболевш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спираторная защита больного и родственников путем использования масок и респират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людение правил личной гигие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нимум визитов других людей к больн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улярное проветривание комнат и влажная уборка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048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акцинация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ение противогриппозных вакцин у лиц из групп повышенного риска по заболеваемости гриппом – один из наиболее эффективных способов уменьшения заболеваемости, тяжелых последствий гриппа и снижения экономических поте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типа вакцин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держащие полный вирус (цельно-вирионн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держащие расщепленный вирион (расщепленно-вирионная, сплит-вакц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держащие очищенный поверхностный антиген (поверхностноантигенн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кцина содержит обычно 3 штамма (2 типа А и 1 типа В), защитный титр антител формируется в течение 2 недел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ервую очередь вакцинироваться должны все медицинские работники, пациенты группы риска по тяжелому течению гриппа, женщины во 2-ой и 3-ем триместрах беременности, дети, работники социальных серви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мальное время для вакцинации для стран Северного полушария с октября по середину ноябр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1981440" cy="1951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таральный синдром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523880"/>
            <a:ext cx="8686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B!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Не бывает ОРВИ/ОРЗ без катаральных симптомов!!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505320" cy="273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3805200"/>
            <a:ext cx="41148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стрый ринит -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520" y="1219320"/>
            <a:ext cx="6248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аление слизистой носовой пол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их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деление слизи из н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ушение носового дых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шел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вследствие оттока слизи по задней стенке глот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2478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арингит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аление слизистой оболочки гло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щущение першения, сухости в гор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зненность при глот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хой каш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304812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онзиллит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аление миндалин (чаще небных) бактериальной или вирусной эти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ая интоксик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иперемия и гипертрофия / отечность миндалин, небных дужек, язычка, задней стенки гло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и в горле при глотании и в области воспаленных л.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лликулярные или лакунарные нал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4572000" cy="258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Ларингит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аление гортани с вовлечением голосовых связок и подсвязочного простран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хой лающий каш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иплость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733920"/>
            <a:ext cx="8686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ахеит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5720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аление слизистой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хой каш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днение за груди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пиглоттит -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аление надгортанника с характерным выраженным нарушением дых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267080" cy="359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1981080"/>
            <a:ext cx="4419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лихорад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женные боли в горле, особенно при глот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фа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дыхания вплоть до стрид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2-02T00:30:3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