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2F2-3CB4-49F8-936D-1A51273C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6F9-F330-4370-95B9-34A92A9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4AF-22DA-4FE3-8799-3871053D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7A6-44D8-4B21-9799-50196EEC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618-AE03-4118-8B7A-B9036295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D24E-8DAE-4400-89E1-B68AD832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76F5-39FF-4EB4-AA8F-A8BEC3C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239E-8080-45AC-ADF5-D37458B8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109-0B88-43A2-BE1A-36C96D9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5B72-5C58-4B13-978B-56DE5C93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2EE-D27B-4ABD-A8AE-7A33310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E48-CA42-4AB6-B32B-3C87E8D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7974-3F8A-46DD-A548-E583070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697-C3D2-4842-81FD-35DB98B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DBD8-AE1E-418D-80F6-F8ADFFC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BE6-C719-4564-B3E0-FF297792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66A-BD9D-4383-B6A4-89092C78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977-A3C5-4955-BAAA-17489F03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B12-F5D5-44E2-ACAA-29012DB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F34-787B-48CF-93E2-48B4A12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634-23F2-450D-AB89-FCFE543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0A1-290E-4AC4-9F4F-299ACB4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BEA-3E47-4F1B-A28B-96CE25D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261-28CF-4F39-A252-75A9188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622-9A7A-4CF0-B121-977DCF71C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2FC-0420-4573-ADEB-3665E5486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«Средняя общеобразовательная школа №10»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560" y="1988640"/>
            <a:ext cx="676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Профилактика гриппа и острых респираторных заболеваний (ОРВИ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97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Грипп-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тяжелое респираторное заболевание в группе острых респираторных заболеваний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Пути передачи вирус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воздушно – пылевы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воздушно – капельным с каплями слюны, слизи и мокроты при дыхании, разговоре и чихан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контактно – бытовым путем через грязные ру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через пищу в случае недостаточной термической обработ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Профилакт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Мас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Руки больного – источник вируса не менее значимый, чем рот и нос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Возду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остояние слизистых оболоче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облюдение личной гигие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Гигиена до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Активный отды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облюдение распорядка д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облюдение режима п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793280" cy="42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спользование в питании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таминизированный хлеб;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итаминизированный напиток «Золотой шар»;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Йодированная соль, для восполнения дефицита йод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Ле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836640"/>
            <a:ext cx="6259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ТОДАЛЬ® - Кашель - разны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а сироп-один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Кашель - это рефлекторная реакция организма на раздражение дыхательных путей. Кашель мешает спать, может вызвать бессонницу и раздражительность. Самой частой причиной кашля являются простудные заболевания. Как правило, в начале заболевания кашель «сухой», навязчивый, а потом переходит во «влажный», с мокро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нимать по 1 столовой ложке 3–5 раз в ден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663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циллококцинум® –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овременный препарат европейского качества для профилактики и лечения гриппа и простуды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565360"/>
            <a:ext cx="59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став Оциллококцинума®: экстракт печени и сердца барбарийской утки. Вспомогательные вещества: сахароза и лактоз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менение Оциллококцинума®: для профилактики в период распространения гриппа, ОРВИ рекомендуется принимать Оциллококцинум® по 1 дозе гранул 1 раз в нед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3097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39640" y="404640"/>
          <a:ext cx="7920000" cy="6274080"/>
        </p:xfrm>
        <a:graphic>
          <a:graphicData uri="http://schemas.openxmlformats.org/drawingml/2006/table">
            <a:tbl>
              <a:tblPr/>
              <a:tblGrid>
                <a:gridCol w="1854360"/>
                <a:gridCol w="1101600"/>
                <a:gridCol w="835200"/>
                <a:gridCol w="1176120"/>
                <a:gridCol w="887400"/>
                <a:gridCol w="1177920"/>
                <a:gridCol w="887400"/>
              </a:tblGrid>
              <a:tr h="73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звание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Болезни органов дых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грипп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пневмо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ОРЗ (всех пут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2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ОРЗ верхних дыхательных путей (фарингит, тонзилл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ОРЗ верхних нижних дыхательных путей (острый бронх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2:19:12Z</dcterms:created>
  <dc:creator>Pasha</dc:creator>
  <dc:description/>
  <dc:language>en-US</dc:language>
  <cp:lastModifiedBy>Customer</cp:lastModifiedBy>
  <dcterms:modified xsi:type="dcterms:W3CDTF">2010-10-17T15:03:29Z</dcterms:modified>
  <cp:revision>14</cp:revision>
  <dc:subject/>
  <dc:title>Муниципальное общеобразовательное учреждение  «Средняя общеобразовательная школа №10»</dc:title>
</cp:coreProperties>
</file>